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D10-F5DD-4200-8334-204ED55CA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2BE-009B-4A93-863D-0BC46D2B9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000E-6867-4138-9E79-1D0B5F48C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5C38-CED2-4FF2-AAB5-CA4760725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AEF-EF3B-4C9B-A811-C3FF1A072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2C4-6E93-4A79-9413-4FAF2382B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4C8-5C5B-430D-97BD-55F2E929C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29D-A497-4997-B55D-1D2DFF2B6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213-F539-4A32-8E47-3B98BEFD2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B3BF-81A0-4934-B648-EEEAB9FBC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561-77F5-4BBA-A09E-F2F408F3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AA1-DD3C-444F-931E-FBC8BE87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C85-D5B6-4540-80DB-32C5CFB8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FE1-88BC-4900-9DD8-13EB2FEC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BB5-A34E-41A3-9076-7F0F437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A24-4213-46CC-B68E-FD2430A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07B-FEC0-4C89-9616-D8BBFE0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C31-65B3-4AE2-9EEC-8523E51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359-04A5-4C34-989C-5816E04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072-6A96-416C-BAE1-4F79CB1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318-A392-4D4B-B684-026227B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A69-0267-4841-9FAD-6273F5F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79DD-BAA5-4153-836F-FDE938B683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1" descr=""/>
          <p:cNvPicPr/>
          <p:nvPr/>
        </p:nvPicPr>
        <p:blipFill>
          <a:blip r:embed="rId1"/>
          <a:stretch/>
        </p:blipFill>
        <p:spPr>
          <a:xfrm>
            <a:off x="95400" y="549360"/>
            <a:ext cx="89532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Swyddogaethau a Chyfrifoldeb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5157720"/>
            <a:ext cx="7775640" cy="147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erthnasau Gwa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1979640" y="1341360"/>
            <a:ext cx="509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e nifer o entrepreneuriaid yn cychwyn fel menter un-person ond yn adeiladu eu tîm yn raddol wrth i’r busnes ehang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3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wyliwch y clip fideo o Syniadau Mawr Cymru – Annette C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n weithio mewn para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dwch y sgiliau/swyddogaethau sydd eu hangen ar gyfer menter busnes lwyddiann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hannw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eich syniadau gyda’r bobl sy’n eistedd o’ch bla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giliau/swyddogaethau sydd eu hangen ar gyfer menter busnes lwyddian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Content Placeholder 11268"/>
          <p:cNvGrpSpPr/>
          <p:nvPr/>
        </p:nvGrpSpPr>
        <p:grpSpPr>
          <a:xfrm>
            <a:off x="2041920" y="1765440"/>
            <a:ext cx="4880520" cy="4644000"/>
            <a:chOff x="2041920" y="1765440"/>
            <a:chExt cx="4880520" cy="4644000"/>
          </a:xfrm>
        </p:grpSpPr>
        <p:sp>
          <p:nvSpPr>
            <p:cNvPr id="56" name="_s1028"/>
            <p:cNvSpPr/>
            <p:nvPr/>
          </p:nvSpPr>
          <p:spPr>
            <a:xfrm>
              <a:off x="3192120" y="1765440"/>
              <a:ext cx="2577960" cy="257832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8320"/>
                <a:gd name="textAreaBottom" fmla="*/ 2578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 rot="4320000">
              <a:off x="4009320" y="2359800"/>
              <a:ext cx="2577960" cy="257760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7600"/>
                <a:gd name="textAreaBottom" fmla="*/ 2577600 h 25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rot="8640000">
              <a:off x="3695760" y="3319560"/>
              <a:ext cx="2577600" cy="257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 rot="12960000">
              <a:off x="2686680" y="3317760"/>
              <a:ext cx="2577600" cy="2577960"/>
            </a:xfrm>
            <a:custGeom>
              <a:avLst/>
              <a:gdLst>
                <a:gd name="textAreaLeft" fmla="*/ 0 w 2577600"/>
                <a:gd name="textAreaRight" fmla="*/ 2577600 w 257760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rot="17280000">
              <a:off x="2376720" y="2357640"/>
              <a:ext cx="2578320" cy="2577960"/>
            </a:xfrm>
            <a:custGeom>
              <a:avLst/>
              <a:gdLst>
                <a:gd name="textAreaLeft" fmla="*/ 0 w 2578320"/>
                <a:gd name="textAreaRight" fmla="*/ 2578320 w 257832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514260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216828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ales and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rketing 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287208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nagement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584604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Fi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4007160" y="537300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Promotion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wyddogaethau a Chyfrifoldebau Swy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n ddefnyddio’r cardiau swyddogaeth yn yr amlen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. dewiswch y swyddogaethau sydd, yn eich barn chi, yn bwysig ar gyfer eich menter bus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luniwch siart sefydliad ar gyfer eich busnes c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Content Placeholder 5124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0" name="_s2052"/>
            <p:cNvCxnSpPr>
              <a:stCxn id="71" idx="0"/>
              <a:endCxn id="72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3"/>
            <p:cNvCxnSpPr>
              <a:stCxn id="74" idx="0"/>
              <a:endCxn id="72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4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891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n ddefnyddio canlyniadau’r archwiliad sgiliau / unrhyw brawf arall sydd wedi canfod sgiliau a galluoedd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Nodwch swyddogaethau posibl sy’n cyfateb â’ch sgiliau a’ch galluoedd chi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Nodwch unrhyw swyddogaeth/swyddogaethau na ellir eu cyflawni’n ddigonol am nad yw’r sgiliau angenrheidiol ar gael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Esboniwch sut y gallech ddatrys y broblem y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549360"/>
          <a:ext cx="8229600" cy="5757840"/>
        </p:xfrm>
        <a:graphic>
          <a:graphicData uri="http://schemas.openxmlformats.org/drawingml/2006/table">
            <a:tbl>
              <a:tblPr/>
              <a:tblGrid>
                <a:gridCol w="2743200"/>
                <a:gridCol w="3449520"/>
                <a:gridCol w="2036880"/>
              </a:tblGrid>
              <a:tr h="56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yddogae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giliau/Priodwedd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nhyrc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erthu a Marchn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sgrifennydd/Ysgrifenyddes ac adnoddau dyn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wgrymiadau ar gyfer cymorth ychwanego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Ll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880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wblhewch y daflen a gawsoch er mwyn ystyried sut wnaethoch chi adnabod y swyddogaeth/swyddogaethau mwyaf addas ar eich cyfer 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5565600" y="4505400"/>
            <a:ext cx="31672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9:45:58Z</dcterms:created>
  <dc:creator>Home</dc:creator>
  <dc:description/>
  <dc:language>en-US</dc:language>
  <cp:lastModifiedBy>gj</cp:lastModifiedBy>
  <dcterms:modified xsi:type="dcterms:W3CDTF">2015-09-11T16:02:06Z</dcterms:modified>
  <cp:revision>53</cp:revision>
  <dc:subject/>
  <dc:title>Slide 1</dc:title>
</cp:coreProperties>
</file>